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AB86-338F-4521-88E5-32433956E900}" type="datetime">
              <a:rPr b="0" lang="de-DE" sz="1200" spc="-1" strike="noStrike">
                <a:solidFill>
                  <a:srgbClr val="000000"/>
                </a:solidFill>
                <a:latin typeface="Gill Sans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B5A3-DA3D-4C51-8438-53CC4387FAF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6EC7-6487-401E-A58A-441265C5BA6B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EC879-48B2-408A-B44A-D19D09539B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01659-A9A9-4638-B223-C0B3B84201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764E-022D-41CA-942E-C4E58965F8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C14C7-E580-4798-B9F0-542944A0DA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84C1F-E8C3-429F-8E87-04FCB25FD5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2FC89-46BA-4DF8-9530-E68CA26493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1AF8B-7E88-41CF-AB87-66FE951A7A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98449-D632-4888-87D9-5C7BF2E12D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D1BE-D10D-48A0-99E7-8E76F52AC2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03F3E-9752-488A-955A-9E229DF8C7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F5CA1-F838-453B-AA2B-B1FC96A99A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D3E5-A903-4728-85CC-C634D1ACFBA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6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3"/>
          <p:cNvSpPr>
            <a:spLocks noGrp="1"/>
          </p:cNvSpPr>
          <p:nvPr>
            <p:ph type="sldNum" idx="1"/>
          </p:nvPr>
        </p:nvSpPr>
        <p:spPr>
          <a:xfrm>
            <a:off x="1268748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9736-CB71-401C-845D-C430CC93187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3.org/RDF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FC5C-CF64-41F1-8B8C-B1178A66B3B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tandteile von RDF-Graph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RI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ur eindeutigen Referenzierung von Ressourc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reits im Rahmen von XML behandel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chreiben Datenwerte denen keine separate Existenz zukomm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lauben Existenzaussagen über ein Individuum mit gewissen Eigenschaften ohne es zu benennen 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9873-7B64-4C4D-BEED-328A2A4C894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teral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r Repräsentation von Daten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rstellung als Zeichenket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erpretation erfolgt durch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 ohne Datentyp werden wie Zeichenketten behandel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1"/>
          <a:stretch/>
        </p:blipFill>
        <p:spPr>
          <a:xfrm>
            <a:off x="2565360" y="6870600"/>
            <a:ext cx="9221760" cy="1990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5C99-8EF2-42DB-ADD2-FBFD2F767B9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raph als Menge von Tripel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schiedene Darstellungsmöglichkeiten für Grap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er verwendet: Liste von (Knoten-Kante-Knoten)-Tripel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52" name="Picture 4" descr=""/>
          <p:cNvPicPr/>
          <p:nvPr/>
        </p:nvPicPr>
        <p:blipFill>
          <a:blip r:embed="rId1"/>
          <a:srcRect l="0" t="7583" r="0" b="61242"/>
          <a:stretch/>
        </p:blipFill>
        <p:spPr>
          <a:xfrm>
            <a:off x="330120" y="6019920"/>
            <a:ext cx="12314160" cy="841320"/>
          </a:xfrm>
          <a:prstGeom prst="rect">
            <a:avLst/>
          </a:prstGeom>
          <a:ln w="0">
            <a:noFill/>
          </a:ln>
        </p:spPr>
      </p:pic>
      <p:grpSp>
        <p:nvGrpSpPr>
          <p:cNvPr id="453" name="Group 5"/>
          <p:cNvGrpSpPr/>
          <p:nvPr/>
        </p:nvGrpSpPr>
        <p:grpSpPr>
          <a:xfrm>
            <a:off x="393840" y="6032520"/>
            <a:ext cx="5058360" cy="2349000"/>
            <a:chOff x="393840" y="6032520"/>
            <a:chExt cx="5058360" cy="2349000"/>
          </a:xfrm>
        </p:grpSpPr>
        <p:pic>
          <p:nvPicPr>
            <p:cNvPr id="454" name="Picture 6" descr=""/>
            <p:cNvPicPr/>
            <p:nvPr/>
          </p:nvPicPr>
          <p:blipFill>
            <a:blip r:embed="rId2"/>
            <a:srcRect l="1003" t="8498" r="64050" b="4357"/>
            <a:stretch/>
          </p:blipFill>
          <p:spPr>
            <a:xfrm>
              <a:off x="393840" y="6032520"/>
              <a:ext cx="437868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7" descr=""/>
            <p:cNvPicPr/>
            <p:nvPr/>
          </p:nvPicPr>
          <p:blipFill>
            <a:blip r:embed="rId3"/>
            <a:srcRect l="35555" t="42441" r="58628" b="42898"/>
            <a:stretch/>
          </p:blipFill>
          <p:spPr>
            <a:xfrm>
              <a:off x="4722480" y="6947280"/>
              <a:ext cx="72972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6" name="Group 8"/>
          <p:cNvGrpSpPr/>
          <p:nvPr/>
        </p:nvGrpSpPr>
        <p:grpSpPr>
          <a:xfrm>
            <a:off x="7399440" y="5989680"/>
            <a:ext cx="5149080" cy="2374560"/>
            <a:chOff x="7399440" y="5989680"/>
            <a:chExt cx="5149080" cy="2374560"/>
          </a:xfrm>
        </p:grpSpPr>
        <p:pic>
          <p:nvPicPr>
            <p:cNvPr id="457" name="Picture 9" descr=""/>
            <p:cNvPicPr/>
            <p:nvPr/>
          </p:nvPicPr>
          <p:blipFill>
            <a:blip r:embed="rId4"/>
            <a:srcRect l="64076" t="6668" r="775" b="5272"/>
            <a:stretch/>
          </p:blipFill>
          <p:spPr>
            <a:xfrm>
              <a:off x="8236800" y="5989680"/>
              <a:ext cx="4311720" cy="23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10" descr=""/>
            <p:cNvPicPr/>
            <p:nvPr/>
          </p:nvPicPr>
          <p:blipFill>
            <a:blip r:embed="rId5"/>
            <a:srcRect l="57245" t="43380" r="35929" b="41960"/>
            <a:stretch/>
          </p:blipFill>
          <p:spPr>
            <a:xfrm>
              <a:off x="7399440" y="6978600"/>
              <a:ext cx="837360" cy="39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5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3FC6-90BE-441E-8A61-D719F9144D2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-Trip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6330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standteile eines RDF-Tripels</a:t>
            </a:r>
            <a:br>
              <a:rPr sz="3500"/>
            </a:b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i="1" lang="en-US" sz="3500" spc="-1" strike="noStrike">
                <a:solidFill>
                  <a:srgbClr val="000000"/>
                </a:solidFill>
                <a:latin typeface="Helvetica Neue"/>
              </a:rPr>
              <a:t>Subjekt          Prädikat          Objekt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ngelehnt an linguistische Kategorien, aber nicht immer stimmig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e Belegungen: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Subjekt : URI oder leerer Knoten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Prädikat: URI         (auch Propertys genannt)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Objekt   : URI oder leerer Knoten oder Litera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noten- und Kantenbezeichner eindeutig, dahe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ursprünglicher Graph aus Tripel-Liste rekonstruierbar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62" name="Picture 3" descr=""/>
          <p:cNvPicPr/>
          <p:nvPr/>
        </p:nvPicPr>
        <p:blipFill>
          <a:blip r:embed="rId1"/>
          <a:stretch/>
        </p:blipFill>
        <p:spPr>
          <a:xfrm>
            <a:off x="1079640" y="2793960"/>
            <a:ext cx="1121544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7E37-713A-4EF1-8F4E-CB9788192CE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FA8D-461F-44FF-9E9C-BF886D45FB1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Syntax für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Auflistung der Trip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3: "Notation 3" - umfangreicher Formalismu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-Triples: Teil von N3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: Erweiterung von N-Triples (Abkürzung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in 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Is in spitzen Klammer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iterale in Anführungszei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ripel durch Punkt abgeschlo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eerzeichen und Zeilenumbrüche außerhalb von Bezeichenern werden ignori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6250-9EDA-4AC0-BB3F-E9D86B1C8A2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ispi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uch in Turtle können Abkürzungen für Präfixe festgelegt werd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2" name="Picture 3" descr=""/>
          <p:cNvPicPr/>
          <p:nvPr/>
        </p:nvPicPr>
        <p:blipFill>
          <a:blip r:embed="rId1"/>
          <a:stretch/>
        </p:blipFill>
        <p:spPr>
          <a:xfrm>
            <a:off x="2095560" y="6705720"/>
            <a:ext cx="9870840" cy="25095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" descr=""/>
          <p:cNvPicPr/>
          <p:nvPr/>
        </p:nvPicPr>
        <p:blipFill>
          <a:blip r:embed="rId2"/>
          <a:stretch/>
        </p:blipFill>
        <p:spPr>
          <a:xfrm>
            <a:off x="2286000" y="2565360"/>
            <a:ext cx="9794880" cy="234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90A7-0128-47C6-A578-809D44DE35A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mehrere Tripel mit gleichem Subjekt kann man zusammenfass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benso Tripel mit gleichem Subjekt und Prädikat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2133720" y="3251160"/>
            <a:ext cx="10362960" cy="2556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" descr=""/>
          <p:cNvPicPr/>
          <p:nvPr/>
        </p:nvPicPr>
        <p:blipFill>
          <a:blip r:embed="rId2"/>
          <a:stretch/>
        </p:blipFill>
        <p:spPr>
          <a:xfrm>
            <a:off x="2043000" y="7404120"/>
            <a:ext cx="10547640" cy="166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C5CF-13E6-4984-8581-FBE5196302C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 intuitiv gut lesbar und maschinenverarbeit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bessere Tool-Unterstützung und Programmbibliotheken für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her: XML-Syntax am verbreitet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4278-F1C9-41E0-A309-6B47319979D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in XML werden Namensräume eingesetzt, um Tagnamen zu disambigu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-eigene tags haben einen festgelegten Na-mensraum, der Bezeichner ist standardmäßig ‘rdf’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85" name="Picture 3" descr=""/>
          <p:cNvPicPr/>
          <p:nvPr/>
        </p:nvPicPr>
        <p:blipFill>
          <a:blip r:embed="rId1"/>
          <a:stretch/>
        </p:blipFill>
        <p:spPr>
          <a:xfrm>
            <a:off x="2004840" y="4927680"/>
            <a:ext cx="10071360" cy="483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Einführung in RDF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7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3" name="Picture 12" descr=""/>
          <p:cNvPicPr/>
          <p:nvPr/>
        </p:nvPicPr>
        <p:blipFill>
          <a:blip r:embed="rId2"/>
          <a:srcRect l="3511" t="67446" r="21726" b="22809"/>
          <a:stretch/>
        </p:blipFill>
        <p:spPr>
          <a:xfrm>
            <a:off x="7670880" y="6921360"/>
            <a:ext cx="3200400" cy="4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4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5" name="Rectangle 63"/>
          <p:cNvSpPr/>
          <p:nvPr/>
        </p:nvSpPr>
        <p:spPr>
          <a:xfrm>
            <a:off x="647640" y="4483080"/>
            <a:ext cx="6108840" cy="43200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Rectangle 64"/>
          <p:cNvSpPr/>
          <p:nvPr/>
        </p:nvSpPr>
        <p:spPr>
          <a:xfrm>
            <a:off x="25560" y="9468000"/>
            <a:ext cx="1591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ers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2E95-825D-42C4-8FA6-616D4CCD32C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360" y="2070000"/>
            <a:ext cx="102614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Das rdf:Description-Element kodiert das Subjekt (dessen URI wird als Wert des zugehörigen rdf:about-Attributs angegeben)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es geschachtelt im rdf:Description-Element enthaltene Element steht für ein Prädikat (dessen URI ist der Elementname), das wiederum das Tripel-Objekt als rdf:Description-Element enthäl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89" name="Picture 3" descr=""/>
          <p:cNvPicPr/>
          <p:nvPr/>
        </p:nvPicPr>
        <p:blipFill>
          <a:blip r:embed="rId1"/>
          <a:srcRect l="0" t="33598" r="238" b="17845"/>
          <a:stretch/>
        </p:blipFill>
        <p:spPr>
          <a:xfrm>
            <a:off x="1003320" y="6908760"/>
            <a:ext cx="10045800" cy="23497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" descr=""/>
          <p:cNvPicPr/>
          <p:nvPr/>
        </p:nvPicPr>
        <p:blipFill>
          <a:blip r:embed="rId2"/>
          <a:stretch/>
        </p:blipFill>
        <p:spPr>
          <a:xfrm rot="5400000">
            <a:off x="7812000" y="4819680"/>
            <a:ext cx="8559720" cy="1257120"/>
          </a:xfrm>
          <a:prstGeom prst="rect">
            <a:avLst/>
          </a:prstGeom>
          <a:ln w="0">
            <a:noFill/>
          </a:ln>
        </p:spPr>
      </p:pic>
      <p:sp>
        <p:nvSpPr>
          <p:cNvPr id="491" name="Line 5"/>
          <p:cNvSpPr/>
          <p:nvPr/>
        </p:nvSpPr>
        <p:spPr>
          <a:xfrm flipH="1">
            <a:off x="10109160" y="3860640"/>
            <a:ext cx="1641600" cy="311472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Line 6"/>
          <p:cNvSpPr/>
          <p:nvPr/>
        </p:nvSpPr>
        <p:spPr>
          <a:xfrm flipH="1">
            <a:off x="4089240" y="7450200"/>
            <a:ext cx="6731280" cy="712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Line 7"/>
          <p:cNvSpPr/>
          <p:nvPr/>
        </p:nvSpPr>
        <p:spPr>
          <a:xfrm flipH="1" flipV="1">
            <a:off x="10616760" y="7902360"/>
            <a:ext cx="1032120" cy="46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Line 8"/>
          <p:cNvSpPr/>
          <p:nvPr/>
        </p:nvSpPr>
        <p:spPr>
          <a:xfrm flipH="1">
            <a:off x="10769400" y="5349960"/>
            <a:ext cx="1539720" cy="210816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0FC5-9D02-4A92-A3E5-3010824026E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getypte Literale können als Freitext in das Prädikatelement eingeschlos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 erlaubt: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 Subjekt enthält mehrere Property-Elemen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 Objekt-Description dient als Subjekt für ein weiteres Trip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1511280" y="6095880"/>
            <a:ext cx="8039160" cy="2745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64E8-70A9-44EC-B4F5-0C58F4C0881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ternative (aber semantisch gleichwertige) Darstellung für Literale als XML-Attribu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ttributnamen sind dann die Property-URI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ngabe von Objekt-URIs als Wert des rdf:resource-Attributs innerhalb eines Property-Tags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165240" y="6019920"/>
            <a:ext cx="7864200" cy="19796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3792-5A2A-4395-8C6B-FAD17006A76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Komplik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Namensräume sind essentiell (nicht nur Abkürzung), da in XML-Elementen und -Attributen keine Doppelpunkte zulässig, die keine Namensräume kodier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Problem: in XML keine Namensräume in Attributwerten möglich (würde im Sinne eines URI-Schemas interpretiert), also z.B. verboten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"Workaround" via XML-Entitäten: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eklaration:</a:t>
            </a: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erwendung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8" name="Picture 3" descr=""/>
          <p:cNvPicPr/>
          <p:nvPr/>
        </p:nvPicPr>
        <p:blipFill>
          <a:blip r:embed="rId1"/>
          <a:stretch/>
        </p:blipFill>
        <p:spPr>
          <a:xfrm>
            <a:off x="2476440" y="7391520"/>
            <a:ext cx="7183440" cy="5652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" descr=""/>
          <p:cNvPicPr/>
          <p:nvPr/>
        </p:nvPicPr>
        <p:blipFill>
          <a:blip r:embed="rId2"/>
          <a:stretch/>
        </p:blipFill>
        <p:spPr>
          <a:xfrm>
            <a:off x="2489040" y="8470800"/>
            <a:ext cx="7147080" cy="5209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5" descr=""/>
          <p:cNvPicPr/>
          <p:nvPr/>
        </p:nvPicPr>
        <p:blipFill>
          <a:blip r:embed="rId3"/>
          <a:stretch/>
        </p:blipFill>
        <p:spPr>
          <a:xfrm>
            <a:off x="2832120" y="5575320"/>
            <a:ext cx="620244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E422-9AC8-4CD5-8C65-0FD81543A4A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Basis-URI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rbeit mit Basis-URIs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kennung relativer URIs an Abwesenheit eines Schemateil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2195640" y="2857680"/>
            <a:ext cx="9316800" cy="292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BD33-4471-4136-9834-62F830561B7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CDC5-1C84-4EA9-BDD7-77D08E0337B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- Abstrak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7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xsd:decim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decimal gilt "3.14"="+03.14"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string nicht!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1" name="Oval 3"/>
          <p:cNvSpPr/>
          <p:nvPr/>
        </p:nvSpPr>
        <p:spPr>
          <a:xfrm>
            <a:off x="1930320" y="3835440"/>
            <a:ext cx="2540160" cy="411480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Oval 4"/>
          <p:cNvSpPr/>
          <p:nvPr/>
        </p:nvSpPr>
        <p:spPr>
          <a:xfrm>
            <a:off x="8928000" y="4305240"/>
            <a:ext cx="2502000" cy="350532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8614800" y="2886480"/>
            <a:ext cx="3382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erte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235440" y="2886480"/>
            <a:ext cx="5106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lexikalischer 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9711720" y="4649040"/>
            <a:ext cx="60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3,14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9635400" y="5766840"/>
            <a:ext cx="52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-2,5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Rectangle 9"/>
          <p:cNvSpPr/>
          <p:nvPr/>
        </p:nvSpPr>
        <p:spPr>
          <a:xfrm>
            <a:off x="9879840" y="6985800"/>
            <a:ext cx="52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Rectangle 10"/>
          <p:cNvSpPr/>
          <p:nvPr/>
        </p:nvSpPr>
        <p:spPr>
          <a:xfrm>
            <a:off x="2678040" y="4141080"/>
            <a:ext cx="854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2418120" y="4763520"/>
            <a:ext cx="137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0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Rectangle 12"/>
          <p:cNvSpPr/>
          <p:nvPr/>
        </p:nvSpPr>
        <p:spPr>
          <a:xfrm>
            <a:off x="2821680" y="55890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+0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3034440" y="6414480"/>
            <a:ext cx="77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-2.5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Rectangle 14"/>
          <p:cNvSpPr/>
          <p:nvPr/>
        </p:nvSpPr>
        <p:spPr>
          <a:xfrm>
            <a:off x="2504160" y="71892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100.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Line 15"/>
          <p:cNvSpPr/>
          <p:nvPr/>
        </p:nvSpPr>
        <p:spPr>
          <a:xfrm flipH="1" flipV="1">
            <a:off x="3632040" y="4287960"/>
            <a:ext cx="5997600" cy="45720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Line 16"/>
          <p:cNvSpPr/>
          <p:nvPr/>
        </p:nvSpPr>
        <p:spPr>
          <a:xfrm flipH="1">
            <a:off x="3822480" y="4846680"/>
            <a:ext cx="5824440" cy="1396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Line 17"/>
          <p:cNvSpPr/>
          <p:nvPr/>
        </p:nvSpPr>
        <p:spPr>
          <a:xfrm flipH="1">
            <a:off x="4025520" y="4948200"/>
            <a:ext cx="5638680" cy="8002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Line 18"/>
          <p:cNvSpPr/>
          <p:nvPr/>
        </p:nvSpPr>
        <p:spPr>
          <a:xfrm flipH="1">
            <a:off x="3846600" y="6014880"/>
            <a:ext cx="5783040" cy="62244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Line 19"/>
          <p:cNvSpPr/>
          <p:nvPr/>
        </p:nvSpPr>
        <p:spPr>
          <a:xfrm flipH="1">
            <a:off x="3804840" y="7183440"/>
            <a:ext cx="6078600" cy="18576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0"/>
          <p:cNvSpPr/>
          <p:nvPr/>
        </p:nvSpPr>
        <p:spPr>
          <a:xfrm>
            <a:off x="4316040" y="3673800"/>
            <a:ext cx="4844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atentypabbildu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F311-6605-425E-B80F-6ABBF721921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isher: Literale ungetypt, wie Zeichenketten behandelt (also z.B.: "02"&lt;"100"&lt;"11"&lt;"2"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ypung erlaubt besseren (semantischen = bedeutungsgemäßen) Umgang mit 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 werden durch URIs identifiziert und sind im Prinzip frei wähl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äufig: Verwendung von xsd-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wert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^^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-URI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C138-AF66-4223-93D9-367D6028430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43080" y="20318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3238560" y="2171880"/>
            <a:ext cx="9563040" cy="23968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3174840" y="5181480"/>
            <a:ext cx="8021880" cy="12826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"/>
          <p:cNvPicPr/>
          <p:nvPr/>
        </p:nvPicPr>
        <p:blipFill>
          <a:blip r:embed="rId3"/>
          <a:stretch/>
        </p:blipFill>
        <p:spPr>
          <a:xfrm>
            <a:off x="3200400" y="6946920"/>
            <a:ext cx="793908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EC00-9F78-4109-92B0-16A7BEC4741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vordefinierte Datentyp</a:t>
            </a: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	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:XMLLiteral ist einziger vordefinierter Datentyp in RD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beliebige (balancierte) XML-Fragment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RDF/XML besondere Syntax zur eindeutigen Darstellung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1" name="Picture 3" descr=""/>
          <p:cNvPicPr/>
          <p:nvPr/>
        </p:nvPicPr>
        <p:blipFill>
          <a:blip r:embed="rId1"/>
          <a:stretch/>
        </p:blipFill>
        <p:spPr>
          <a:xfrm>
            <a:off x="1905120" y="6718320"/>
            <a:ext cx="9740880" cy="287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743F-EEA1-4534-A3D7-D0BD63972E3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693F-6C38-48DD-8CBD-8F0F06AFFD6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prachinformationen beeinflussen nur ungetypte 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XM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1"/>
          <a:stretch/>
        </p:blipFill>
        <p:spPr>
          <a:xfrm>
            <a:off x="1739880" y="5270400"/>
            <a:ext cx="11176200" cy="16765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"/>
          <p:cNvPicPr/>
          <p:nvPr/>
        </p:nvPicPr>
        <p:blipFill>
          <a:blip r:embed="rId2"/>
          <a:stretch/>
        </p:blipFill>
        <p:spPr>
          <a:xfrm>
            <a:off x="1714680" y="7848720"/>
            <a:ext cx="10921680" cy="91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B4B5-2D97-4691-870A-07C530D33FE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nach RDF-Spezifikation sind demnach die folgenden Literale unterschiedli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...werden aber häufig (intuitionsgemäß) als gleich implementier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"/>
          <a:stretch/>
        </p:blipFill>
        <p:spPr>
          <a:xfrm>
            <a:off x="1816200" y="3568680"/>
            <a:ext cx="1042668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247F-9078-49F1-B1D5-13BE140A626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E452-82CD-451D-9451-E13C73363A1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icht zufriedenstellend: Zutaten samt Menge als Zeichenkette. Suche nach Rezepten, die grüne Mango beinhalten, so nicht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67" name="Picture 3" descr=""/>
          <p:cNvPicPr/>
          <p:nvPr/>
        </p:nvPicPr>
        <p:blipFill>
          <a:blip r:embed="rId1"/>
          <a:stretch/>
        </p:blipFill>
        <p:spPr>
          <a:xfrm>
            <a:off x="2030400" y="5499000"/>
            <a:ext cx="10277640" cy="81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9ED0-3114-4943-9326-39D5616A0BE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überhaupt nicht zufriedenstellend: keine eindeutige Zuordnung von konkreter Zutat und Menge mehr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71" name="Picture 3" descr=""/>
          <p:cNvPicPr/>
          <p:nvPr/>
        </p:nvPicPr>
        <p:blipFill>
          <a:blip r:embed="rId1"/>
          <a:stretch/>
        </p:blipFill>
        <p:spPr>
          <a:xfrm>
            <a:off x="2082960" y="5308560"/>
            <a:ext cx="1060596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FA32-CF11-4FD7-8095-D2BAB7044D1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blem: es handelt sich um eine echte dreiwertige (auch: ternäre) Beziehung (s. z.B. Datenbank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Darstellung in RDF nicht möglich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Einführung von Hilfs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2859120" y="4356000"/>
          <a:ext cx="7264440" cy="2055960"/>
        </p:xfrm>
        <a:graphic>
          <a:graphicData uri="http://schemas.openxmlformats.org/drawingml/2006/table">
            <a:tbl>
              <a:tblPr/>
              <a:tblGrid>
                <a:gridCol w="2101680"/>
                <a:gridCol w="3367080"/>
                <a:gridCol w="17956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erich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Zuta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Meng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üne Man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450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ayennepfeff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 T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09F0-05FB-4771-9A99-EB71FBC159E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lfsknoten in RDF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-Syntax (mit Verwendung von rdf:value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2324160" y="3733920"/>
            <a:ext cx="9423360" cy="19177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2093760" y="6921360"/>
            <a:ext cx="103791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07B8-5FF1-446F-9EDA-282ADA76C3A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3699-351F-43C4-A1C2-61976ACDBC3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 (blank nodes, bnodes) können für Ressourcen verwendet werden, die nicht benannt werden müssen (z.B. Hilfsknot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ls Existenzaussagen gele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2603520" y="7404120"/>
            <a:ext cx="8869320" cy="1816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3480-27D5-4717-A10B-9AAC316B365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1" name="Picture 3" descr=""/>
          <p:cNvPicPr/>
          <p:nvPr/>
        </p:nvPicPr>
        <p:blipFill>
          <a:blip r:embed="rId1"/>
          <a:stretch/>
        </p:blipFill>
        <p:spPr>
          <a:xfrm>
            <a:off x="2489040" y="7264440"/>
            <a:ext cx="8817120" cy="21668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" descr=""/>
          <p:cNvPicPr/>
          <p:nvPr/>
        </p:nvPicPr>
        <p:blipFill>
          <a:blip r:embed="rId2"/>
          <a:stretch/>
        </p:blipFill>
        <p:spPr>
          <a:xfrm>
            <a:off x="2487600" y="3733920"/>
            <a:ext cx="8809200" cy="254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4636-0149-42F0-855F-95FE90EB9B0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0CB7-849B-4035-A138-EE6AE8BE282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1"/>
          <a:stretch/>
        </p:blipFill>
        <p:spPr>
          <a:xfrm>
            <a:off x="2805120" y="3670200"/>
            <a:ext cx="9640800" cy="12733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4" descr=""/>
          <p:cNvPicPr/>
          <p:nvPr/>
        </p:nvPicPr>
        <p:blipFill>
          <a:blip r:embed="rId2"/>
          <a:stretch/>
        </p:blipFill>
        <p:spPr>
          <a:xfrm>
            <a:off x="2832120" y="6273720"/>
            <a:ext cx="9575640" cy="124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D53B-3424-4BCA-BDC6-EF1B8435163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0E92-DA8C-4B2C-962C-70DE7B0D582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82680" y="1854000"/>
            <a:ext cx="11531520" cy="794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Datenstrukturen zur Aufzählung von beliebig vielen Ressourcen (Reihenfolge relevant), z.B. Autoren eines Buch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terscheidung zwisc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ffenen Listen (Container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neuen Einträgen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schlossenen Listen (Collections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 neuen Einträgen nicht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uch mit bereits vorgestellten Ausdrucksmitteln modelliert werden, also keine zusätzliche Ausdrucksstärke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862B-6447-460E-BC04-1215B94E4D6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ffene Listen (Container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 in RDF/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7" name="Picture 3" descr=""/>
          <p:cNvPicPr/>
          <p:nvPr/>
        </p:nvPicPr>
        <p:blipFill>
          <a:blip r:embed="rId1"/>
          <a:stretch/>
        </p:blipFill>
        <p:spPr>
          <a:xfrm>
            <a:off x="2171880" y="2755800"/>
            <a:ext cx="8650080" cy="28069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"/>
          <p:cNvPicPr/>
          <p:nvPr/>
        </p:nvPicPr>
        <p:blipFill>
          <a:blip r:embed="rId2"/>
          <a:stretch/>
        </p:blipFill>
        <p:spPr>
          <a:xfrm>
            <a:off x="2860560" y="6642000"/>
            <a:ext cx="7274160" cy="279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9635-EBEE-4771-9046-2E8EE678E32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ypen offener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ia rdf:type wird dem Listen-Wurzelknoten ein Listentyp zugewies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Seq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geordnete Liste (Sequenz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Ba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ungeordnete Meng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 RDF kodierte Reihenfolge nicht von Belang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Al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ge alternativer Möglichkei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m Regelfall immer nur ein Listeneintrag releva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5BAB-5AEA-4ECA-B43B-40DD9F15903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dee: rekursive Zerlegung der Liste in Kopfelement und (möglicherweise leere) Restliste.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15" name="Picture 3" descr=""/>
          <p:cNvPicPr/>
          <p:nvPr/>
        </p:nvPicPr>
        <p:blipFill>
          <a:blip r:embed="rId1"/>
          <a:stretch/>
        </p:blipFill>
        <p:spPr>
          <a:xfrm>
            <a:off x="2755800" y="2324160"/>
            <a:ext cx="8690040" cy="51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53D8-9480-4438-B068-91BBDCF3E9A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1917720" y="3009960"/>
            <a:ext cx="10258560" cy="29844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" descr=""/>
          <p:cNvPicPr/>
          <p:nvPr/>
        </p:nvPicPr>
        <p:blipFill>
          <a:blip r:embed="rId2"/>
          <a:stretch/>
        </p:blipFill>
        <p:spPr>
          <a:xfrm>
            <a:off x="1890720" y="7543800"/>
            <a:ext cx="10858320" cy="120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FCBE-B9E0-4C7E-B8AE-96756868619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erbreitungsgrad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eute existiert Vielzahl von RDF-Tool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grammier-Bibliotheken für praktisch jede Programmiersprach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rei verfügbare Systeme zum Umgang mit großen RDF-Datenmengen (sogenannte RDF Stores oder Triple Stores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ch kommerzielle Anbieter (z.B. Oracle) unterstützen zunehmend RD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undlage für Datenformate: RSS 1.0, XMP (Adobe), SVG (Vektorgrafikformat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9831-7907-4958-B404-DBA0E71E0DB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wertung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läufig unterstützter Standard für Speicherung und Austausch von Da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möglicht weitgehend syntaxunabhängige Darstellung verteilter Informationen in graphbasiertem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nes RDF sehr "individuenorientier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aum Möglichkeiten zur Kodierung von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➜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RDF Schema (nächste Vorlesung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3C31-6D62-49FB-B2B7-56D581D0CC9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g-Namen ambig (durch Namespaces und URIs behebbar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aumstruktur nicht optimal fü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uitive Beschreibung der Dat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formationsintegra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wie kodiert man in einem Baum den Fakt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Unzulänglichkeiten von XML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BF31-84C1-4321-B3C7-7EA30C89015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odellierungsprobleme in XM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                       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tc. .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1143000" y="3600360"/>
            <a:ext cx="7429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&gt;Springer-Verlag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&gt;Semantic Web - Grundlagen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5816520" y="5213520"/>
            <a:ext cx="74296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 Name="Springer-Verlag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 Buch="Semantic Web - Grundlagen/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1143000" y="6927840"/>
            <a:ext cx="74296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 Name="Semantic Web - Grundlagen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er Verlag="Springer-Verlag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4ED4-97D5-4F49-A37D-B28890CF278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: Graphen statt Bäu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Darstellung durch (gerichtete Graph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1422360" y="5334120"/>
            <a:ext cx="1121580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8CB1-D399-4C39-B5C7-4BBA8F661E9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CC32-3736-4BF2-B6FE-0BD97C6F990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lgemeines zu RDF</a:t>
            </a:r>
            <a:br>
              <a:rPr sz="6200"/>
            </a:b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urce Description Framework”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3C Recommendation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w3.org/RD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ist ein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sprünglich: zur Angabe von Metadaten für Web-Ressourcen, später allgemein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diert strukturierte Informatio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niverselles, maschinenlesbares Austauschform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23:24:53Z</dcterms:created>
  <dc:creator/>
  <dc:description/>
  <cp:keywords/>
  <dc:language>en-US</dc:language>
  <cp:lastModifiedBy>Sebastian Rudolph</cp:lastModifiedBy>
  <dcterms:modified xsi:type="dcterms:W3CDTF">2008-11-05T15:12:55Z</dcterms:modified>
  <cp:revision>8</cp:revision>
  <dc:subject/>
  <dc:title>Grundlagen Semantic Web</dc:title>
</cp:coreProperties>
</file>